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B68-8756-4F48-A064-B220FD54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3A2-46E8-4162-B8AD-394AB70C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5D6-80E9-40FA-AF93-BEF725B9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D43-6B67-4123-BE9A-037E701B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5E5-4FEC-4BF7-8EE3-A83701CA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ACF-0B45-4982-ACE5-44A9D9E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AB4-4158-4B75-A595-65FD5772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6B5-8ACA-403E-A9E8-1368B8CF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E0F-B7DE-4859-88B1-8CA0E825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5E3-AD5B-4DCE-95D1-A169A39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DA6-588C-42BE-84AB-058943E9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587-A173-4C19-AC65-3AE0E323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BD0-9545-48F6-884F-B76D2C181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haha.wa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haha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haha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haha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  <a:hlinkClick r:id="rId1"/>
          </p:cNvPr>
          <p:cNvSpPr/>
          <p:nvPr/>
        </p:nvSpPr>
        <p:spPr>
          <a:xfrm>
            <a:off x="533520" y="304920"/>
            <a:ext cx="2286000" cy="23619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" action="ppaction://hlinkshowjump?jump=nextslide"/>
            <a:hlinkClick r:id="rId1"/>
          </p:cNvPr>
          <p:cNvSpPr/>
          <p:nvPr/>
        </p:nvSpPr>
        <p:spPr>
          <a:xfrm>
            <a:off x="6400800" y="4114800"/>
            <a:ext cx="2286000" cy="23623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4191120"/>
            <a:ext cx="2286000" cy="23619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6553080" y="228600"/>
            <a:ext cx="2286000" cy="23623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07:51:16Z</dcterms:created>
  <dc:creator>Priory Woods</dc:creator>
  <dc:description/>
  <dc:language>en-US</dc:language>
  <cp:lastModifiedBy>Ian Bean</cp:lastModifiedBy>
  <dcterms:modified xsi:type="dcterms:W3CDTF">2001-01-27T01:06:43Z</dcterms:modified>
  <cp:revision>4</cp:revision>
  <dc:subject/>
  <dc:title>No Slide Title</dc:title>
</cp:coreProperties>
</file>